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2C1B-BAEA-4646-A17C-0D8989754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FF1-E5CC-4756-8F74-89421C91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256E-C5FA-4933-BC5C-5ADBE4302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34CE-A3CA-4F98-BF30-5FD69F3A3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FA24-918D-4F58-BC29-287B03E7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247-1DA5-4EB8-9C24-66DBFCA2A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45E-A0A6-412B-BAE9-D62CF116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D82-AE64-4A72-A332-26DDC384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782-7401-4896-8B6E-7C9812F4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A46-F780-4F63-8D90-ED8D4BBA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6E6-8E9D-4F27-AB1C-2F187F82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3C7-65A4-45D6-ACA2-0D51A92C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FF8-26CC-43E2-95A6-F743A72B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87F-1757-4526-8B07-EAF08502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677-AEA5-4A3D-9EFA-707390EB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3D5-6208-447D-9384-BACFBF3D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90F-D25E-4EE1-BAB3-C3F0A458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438-5CCC-4B31-A669-363FA22B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FA1C-D602-4A15-B87C-A48BB9CD1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images.google.com/imgres?imgurl=http://images.usatoday.com/news/_photos/2006/09/25/somalia_thumb.jpg&amp;imgrefurl=http://asp.usatoday.com/community/tags/topic.aspx%3Freq%3Dtag%26pg%3D59%26tag%3DKenya&amp;h=169&amp;w=123&amp;sz=7&amp;hl=en&amp;start=12&amp;um=1&amp;usg=__jFcEZVwH4vI_kZ6PRZTfvyHTX1E=&amp;tbnid=2aoL6Luz1zi_yM:&amp;tbnh=99&amp;tbnw=72&amp;prev=/images%3Fq%3DMuhammad%2BSiad%2BBarre%26um%3D1%26hl%3Den%26sa%3D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Curlz MT"/>
              </a:rPr>
              <a:t>So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y: Brandi Turner-Ke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Mr. H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loc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5e7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About 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malia’s flag was adopted on October 12,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flag was designed by a person named Mohammed Awale Li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flag was intended to look like the flag of the United Nation, because the helped them gain independence from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Flag of Somalia"/>
          <p:cNvPicPr/>
          <p:nvPr/>
        </p:nvPicPr>
        <p:blipFill>
          <a:blip r:embed="rId1"/>
          <a:stretch/>
        </p:blipFill>
        <p:spPr>
          <a:xfrm>
            <a:off x="6553080" y="457200"/>
            <a:ext cx="1981440" cy="1219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ff00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0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Edwardian Script ITC"/>
              </a:rPr>
              <a:t>The location of So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Freestyle Script"/>
              </a:rPr>
              <a:t>The Somalia is known as Somali Democratic Repub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Freestyle Script"/>
              </a:rPr>
              <a:t>It is locate in the horns of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Freestyle Script"/>
              </a:rPr>
              <a:t>Somalia is bordered by Djibouti  in the northwest, Kenya on its southwest, the Gulf of Aden with Yemen to its north, and the Indian Ocean to its e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somalia-map"/>
          <p:cNvPicPr/>
          <p:nvPr/>
        </p:nvPicPr>
        <p:blipFill>
          <a:blip r:embed="rId2"/>
          <a:stretch/>
        </p:blipFill>
        <p:spPr>
          <a:xfrm>
            <a:off x="4648320" y="1600200"/>
            <a:ext cx="312408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ench Script MT"/>
              </a:rPr>
              <a:t>important dat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ench Script MT"/>
              </a:rPr>
              <a:t>Mohamed was a self-proclaimed socialist president of Somalia from 1969 to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ench Script MT"/>
              </a:rPr>
              <a:t>While he was in reign the military staged a coup and took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ench Script MT"/>
              </a:rPr>
              <a:t>He attempted to develop a personality 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ench Script MT"/>
              </a:rPr>
              <a:t>Mohamed came out of reign when the country started to fall a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4648320" y="1609560"/>
          <a:ext cx="4038480" cy="45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9560"/>
                    <a:ext cx="403848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7" descr="somalia_thum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2666880"/>
            <a:ext cx="17528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barre"/>
          <p:cNvPicPr/>
          <p:nvPr/>
        </p:nvPicPr>
        <p:blipFill>
          <a:blip r:embed="rId5"/>
          <a:stretch/>
        </p:blipFill>
        <p:spPr>
          <a:xfrm>
            <a:off x="4800600" y="2133720"/>
            <a:ext cx="16765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Important date #2</a:t>
            </a: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Lucida Handwriting"/>
              </a:rPr>
              <a:t>The during the first two decades the nineteen hundreds, Somalia was ruled by Britain. The Britain was challenged by persistent attacks by a rebellion led by Mohamed Abdullah, known and the “Mad Mullah”, by British people. A long series of intermittent engagements and truces ended in  1920 when British warplanes bombed Abdullah’s stronghold at Taleex. Although Abdullah was defeated, he was lauded as a popular hero and stands as a major figure of national identity to many Somalis</a:t>
            </a:r>
            <a:r>
              <a:rPr b="0" lang="en-US" sz="2400" spc="-1" strike="noStrike">
                <a:solidFill>
                  <a:srgbClr val="00ff00"/>
                </a:solidFill>
                <a:latin typeface="Lucida Handwrit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68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68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5e7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urlz MT"/>
              </a:rPr>
              <a:t>Important dat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urlz MT"/>
              </a:rPr>
              <a:t>In 1977, the  Ogaden War started between Somalia and Ethiop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urlz MT"/>
              </a:rPr>
              <a:t>The Ethiopian’s troops defeated the Somalis troo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urlz MT"/>
              </a:rPr>
              <a:t>The war ended in 1978, but Ethiopia and Somalia are still big rival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2133720" cy="170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radley Hand ITC"/>
              </a:rPr>
              <a:t>Current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Perpetua"/>
              </a:rPr>
              <a:t>There is no national government in Somalia. Part of Somalia is self-declared Republic of Somali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The 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00"/>
                </a:solidFill>
                <a:uFillTx/>
                <a:latin typeface="Brush Script MT"/>
              </a:rPr>
              <a:t>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Brush Script MT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Sorgh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Q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Machine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00"/>
                </a:solidFill>
                <a:uFillTx/>
                <a:latin typeface="Brush Script MT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Charc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Live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rush Script MT"/>
              </a:rPr>
              <a:t>H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I think that Somalia might grow because of their agriculture, but their government might make is go downhill because they really don’t have a government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4:49Z</dcterms:created>
  <dc:creator>branditurner</dc:creator>
  <dc:description/>
  <dc:language>en-US</dc:language>
  <cp:lastModifiedBy>LCS_user</cp:lastModifiedBy>
  <dcterms:modified xsi:type="dcterms:W3CDTF">2008-11-21T18:54:28Z</dcterms:modified>
  <cp:revision>6</cp:revision>
  <dc:subject/>
  <dc:title>Somalia</dc:title>
</cp:coreProperties>
</file>